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CD1-0A4E-42E6-B21C-1C449653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56E-9E85-4A2A-BD35-72C20A9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031-FE86-4890-A333-7538F33B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81F-5573-4ED2-A62E-F8A08FBB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6EED-0333-43EC-A03F-D3178EF8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163A-422C-4AB3-9090-8C1C91CC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EC3-A8D9-422A-B422-0DA79D7C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E2D1-E06D-4A5B-90DD-BB0C5B8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AC46-7C51-4090-B903-EB1CFED7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FC56-36EA-486A-A4C9-78253588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E4AA-EC74-42D1-9349-0788F70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499-0DF2-45D7-8E04-7925282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81B-1A4E-45D7-890C-76C28B9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EE89-8D4B-4076-AAFC-B21E9E2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6A1-77A1-4EDE-8A17-1A5CEC7C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B047-5D0E-4B23-AAF7-18CFB7E3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8AF-D9E1-450C-8626-C58CC25B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F48-EB1A-47FD-82E6-CC84B30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2D3-D71F-42EC-9089-F0F7394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05B-207A-409A-957D-1E62F92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0FE-8F1F-44B1-BAC8-DE6CF48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ACA-681F-4A22-9531-8E321CC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3D3-6ABA-41DE-8534-227DDB6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1C6-5E5C-4D82-81CD-26FF240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AA6-E0D7-4EA9-AC49-5E59B8362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D75-BD5D-4E57-8568-26ED8AB03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File:Common_carp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en.wikipedia.org/wiki/File:Murray_river_australia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en.wikipedia.org/wiki/File:Murray_cod02_melb_aquarium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uropean settlement the Murray river is being damaged at a surprising r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Europeans have introduced alien fish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35280" y="620640"/>
            <a:ext cx="6810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is the Murray River being damaged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8785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We are using too much water as a result of this water levels are dro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and salt levels are rising causing a salinity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300640"/>
            <a:ext cx="813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Native fish numbers are faltering (decrea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6165720"/>
            <a:ext cx="712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Cyanobacteria out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58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urrent situation: syanobacteria has occurred in the Murray, it can release dangerous toxins and are created by falling water levels, reduced flow and rising water tempera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692280"/>
            <a:ext cx="34005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yiano bacteria outbreak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852640"/>
            <a:ext cx="813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 can cause skin irritations if touched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860640"/>
            <a:ext cx="792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esired outcome : to increase the flow and water levels of the Murra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kill the algae naturally. If we kill the algae unnaturally it will release more dea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xins into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013360"/>
            <a:ext cx="8064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797360"/>
            <a:ext cx="7704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Proposed actions and guide lines: We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ot killing it using chemicals because the blue-green algae would just release more tox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093000"/>
            <a:ext cx="7993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ff"/>
                </a:solidFill>
                <a:latin typeface="Arial"/>
              </a:rPr>
              <a:t>Europeans have introduced Alien fis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7360" y="1628640"/>
            <a:ext cx="79311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Current situation: Carp and other alien fish introduced by Europeans  eating habits are disrupting the food sources of native fish. There fore the native fish will eventually di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213000"/>
            <a:ext cx="763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Desired outcome: we want the Carp to be completely extinct in the Mu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013360"/>
            <a:ext cx="7417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Proposed action and guide lines: In Queensland they are holding carp killing compe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6165720"/>
            <a:ext cx="698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ages are being offered to communities to capture and kill Ca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98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Current situation Farmers and people who use water from the Murray are wasting too much water. Therefore salt levels will rise and the water can become corros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11280" y="692280"/>
            <a:ext cx="4438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 are using tooo much water!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997360"/>
            <a:ext cx="8137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Native fish and plants will die if they absorb too much salt water. This could disrupt the whole food ch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716280"/>
            <a:ext cx="763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Desired outcome: We want too raise water restrictions too reduce the amount of water being wa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4292640"/>
            <a:ext cx="748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More water to be put into the Murray so people will have enough water to use and wildlife to flourish in the Murr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013360"/>
            <a:ext cx="777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Proposed action and guide lines: New technologies are being used for irrigation such as sprinkl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516640"/>
            <a:ext cx="7705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The government has purchase $50 million  of water for the Mu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021360"/>
            <a:ext cx="770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Planting more deep rooted native plants that can withstand salin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349360"/>
            <a:ext cx="7201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The Murray River is 11.7%  sal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ff"/>
                </a:solidFill>
                <a:latin typeface="Arial"/>
              </a:rPr>
              <a:t>Native fish numbers are declining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Current situation: since European settlement native fish numbers have decl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421000"/>
            <a:ext cx="7561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This  has occurred as a result of introduction of alien fish and rising salination salination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645000"/>
            <a:ext cx="7561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Desired outcome: Get rid of alien fish, start native fish breeding programs and protecting</a:t>
            </a:r>
            <a:r>
              <a:rPr b="0" lang="en-US" sz="1600" spc="-1" strike="noStrike">
                <a:solidFill>
                  <a:srgbClr val="9966ff"/>
                </a:solidFill>
                <a:latin typeface="Arial"/>
              </a:rPr>
              <a:t>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Native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797360"/>
            <a:ext cx="748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Native fish numbers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661000"/>
            <a:ext cx="7775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Proposed actions and guidelines: the government has built new fish ways and restocking the native fish spec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Syan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56000" y="62064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mag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" descr="Algal bloom on water"/>
          <p:cNvPicPr/>
          <p:nvPr/>
        </p:nvPicPr>
        <p:blipFill>
          <a:blip r:embed="rId3"/>
          <a:stretch/>
        </p:blipFill>
        <p:spPr>
          <a:xfrm>
            <a:off x="468360" y="2133720"/>
            <a:ext cx="2663640" cy="18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Common carp, Cyprinus carpi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2924280"/>
            <a:ext cx="2160720" cy="928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08360" y="2060640"/>
            <a:ext cx="21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C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Cliffs along the Murray River, near Younghusband, South Australia, with a houseboat on the right and an Australian pelican in the foregroun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04000" y="4394160"/>
            <a:ext cx="324000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1180000">
            <a:off x="6732360" y="3573360"/>
            <a:ext cx="19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Murra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76360" y="486900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25000">
            <a:off x="1834920" y="4437000"/>
            <a:ext cx="194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Murray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2:58Z</dcterms:created>
  <dc:creator>Primary School</dc:creator>
  <dc:description/>
  <dc:language>en-US</dc:language>
  <cp:lastModifiedBy>Primary School</cp:lastModifiedBy>
  <dcterms:modified xsi:type="dcterms:W3CDTF">2009-05-13T02:01:47Z</dcterms:modified>
  <cp:revision>9</cp:revision>
  <dc:subject/>
  <dc:title>Since European settlement the Murray river is being damaged at a surprising rate!</dc:title>
</cp:coreProperties>
</file>